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3A8-66C0-4780-9326-5CCFD873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2D9-7963-4E1F-AE37-8592D685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DC4-6AE2-4FA5-AC5D-C9CE8B83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542-6863-448D-92FB-527D354B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53A-3ACE-47A5-A69D-856F694B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480-5E4A-491C-83A6-CBA009F6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8F3-4006-4693-9BB3-52D97FA7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2F6-1A20-41C1-B6E7-C40C562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A83-F6C8-43B8-9E0E-BB21288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D27-B7CA-42D3-8A9A-760DECD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DF7-98A3-4911-8741-E897A11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100-261A-47EF-A054-76FC19D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58F8-AC63-452F-8125-71020AFA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838080"/>
            <a:ext cx="4114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>
                    <a:alpha val="63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uhaus 93"/>
              </a:rPr>
              <a:t>Symmetr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>
                  <a:alpha val="63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160524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2209320" y="4038480"/>
            <a:ext cx="1605240" cy="180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914400"/>
            <a:ext cx="1824120" cy="15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91320" y="3352680"/>
            <a:ext cx="2062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72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35:50Z</dcterms:created>
  <dc:creator>Patrick Mooney</dc:creator>
  <dc:description/>
  <dc:language>en-US</dc:language>
  <cp:lastModifiedBy>Patrick Mooney</cp:lastModifiedBy>
  <dcterms:modified xsi:type="dcterms:W3CDTF">2009-05-13T18:55:25Z</dcterms:modified>
  <cp:revision>7</cp:revision>
  <dc:subject/>
  <dc:title>Slide 1</dc:title>
</cp:coreProperties>
</file>